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D4AA-B230-43F7-8D39-25CB6759D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8255-62BF-4737-A3C8-F7615330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3AFC-9BDC-4FFA-91C6-ADE90A6BE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9C09-7819-4E9A-857F-92C19407D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782F-89E1-454A-BCAD-CB2BC206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7466-E0DB-4322-B0C4-AA421DFC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A9CA-6B2D-4689-BBBF-D8A4F781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B314-EE5A-4B75-9E02-2241D3CE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870C-6201-4366-ACF6-ABFBFF1E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4E32-3414-4FDA-9615-E70E6884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630F-F799-4D2E-82A0-4C105BBB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CC09-8A7C-4EC0-AECA-41BFB826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A375-136D-4483-B97F-38C3A86B1A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Pedagoška psihologija </a:t>
            </a: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0" lang="en-US" sz="4900" spc="-1" strike="noStrike">
                <a:solidFill>
                  <a:srgbClr val="7f7f7f"/>
                </a:solidFill>
                <a:latin typeface="Calibri"/>
              </a:rPr>
              <a:t>PEDAGOŠKA PSIHOLOGIJA</a:t>
            </a:r>
            <a:br>
              <a:rPr sz="4900"/>
            </a:br>
            <a:r>
              <a:rPr b="0" lang="en-US" sz="4000" spc="-1" strike="noStrike">
                <a:solidFill>
                  <a:srgbClr val="7f7f7f"/>
                </a:solidFill>
                <a:latin typeface="Calibri"/>
              </a:rPr>
              <a:t>uv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449532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rof. Dr Nada Kora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edagoški fakultet u Jagodin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Univerztet u Kragujevc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te u škol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120" y="10666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Object 2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239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dicionalna i  aktivna nastava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1142640"/>
            <a:ext cx="8229600" cy="5288040"/>
          </a:xfrm>
          <a:prstGeom prst="rect">
            <a:avLst/>
          </a:prstGeom>
          <a:ln w="0">
            <a:noFill/>
          </a:ln>
        </p:spPr>
      </p:pic>
      <p:pic>
        <p:nvPicPr>
          <p:cNvPr id="48" name="Object 2" descr=""/>
          <p:cNvPicPr/>
          <p:nvPr/>
        </p:nvPicPr>
        <p:blipFill>
          <a:blip r:embed="rId2"/>
          <a:stretch/>
        </p:blipFill>
        <p:spPr>
          <a:xfrm>
            <a:off x="2362320" y="1143000"/>
            <a:ext cx="4800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čenje i učenici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pismena osoba 2000. godine nije osoba koja ne ume da čita i piše, već osoba koja ne zna da uči, odučava i ponovo uči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vin Tof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 imam šest odanih službenika koji su me naučili svemu što znam. Njihova imena su: šta, zašto, kada, kako, gde i ko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yard Ki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ko misliš da je teško biti učenik, probaj da budeš nastavni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astava i nastavnic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Čovek, koji hoće savesno da utiče na razvitak drugog čoveka, može da postupa samo na jedan način: da razvija njegovu snagu mišljenja, a ga nauči d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matra činjenice sâm svojim umo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 d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âm ume praviti logične zaključk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Svaki onaj ko tako ne radi, već koji čoveka hoće da kljuka svojim planovima i savetima, kao umešenim kolačima – taj može imati svake druge namere, samo ne da pomogne razviću onoga na koga utič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vetozar Marković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Odabrani listov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Novo pokoljenje, Beograd, 1949 – podv. N.K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124080" y="4724280"/>
            <a:ext cx="990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8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fesionalne kompetencije nastavnika</a:t>
            </a:r>
            <a:br>
              <a:rPr sz="29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ta sve nastavnik treba da zna / ume da rad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loga psiholoških znanja u radu nastavnik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znanja iz oblasti koju predaje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konceptualne veštin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uočavanje problema, identifikacija i vrednovanj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gućih rešenja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ošenje odluka)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eštine komuniciranj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umeće rada se učenicima, razumevanje 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tivisanj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dagoška psihologija i njena primena u ško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tražuje i proučav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sihološku stranu vaspitanja i obrazov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riterijumi pode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uzrast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: obrazovanje dece, omladine, odraslih, trećeg doba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mesto realizacije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: nastava ↔ vannastavne aktivnosti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predmet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: učenje ↔ poučavanj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ight Arrow 3"/>
          <p:cNvSpPr/>
          <p:nvPr/>
        </p:nvSpPr>
        <p:spPr>
          <a:xfrm>
            <a:off x="4495680" y="137160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a6a6a6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609480" y="1066680"/>
            <a:ext cx="3581640" cy="7621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edagoška psihologij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4876920" y="1066680"/>
            <a:ext cx="3809880" cy="7621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sihologija obrazovanj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ko koristiti istraživanja u praktičnom ra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ritič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ati uvek u vidu konkretne uslov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orediti sa uslovima u istraživanj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aktič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niti koliko se neka preporuka zaista uklapa u ra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npr. individualno vs. grupno poučavanj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reativno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ristiti rezultate originalno i stvaralačk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ge &amp; Berliner (1989)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urturing the critical, practical, and artistic thinking of teach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Phi Delta Kappan, 7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21:18:35Z</dcterms:created>
  <dc:creator>Nada Korac</dc:creator>
  <dc:description/>
  <dc:language>en-US</dc:language>
  <cp:lastModifiedBy>Nebojsa</cp:lastModifiedBy>
  <dcterms:modified xsi:type="dcterms:W3CDTF">2011-02-07T07:58:27Z</dcterms:modified>
  <cp:revision>29</cp:revision>
  <dc:subject/>
  <dc:title>Šta škola radi detetu</dc:title>
</cp:coreProperties>
</file>