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8FFD-B89B-4C73-B81D-16EE02891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B53F-52B0-4522-A54C-0BC6F0B6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438E-0462-43D1-8D81-0B5977A18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FBAA-686E-400A-BA8D-E47686E31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C5AA-94DE-4694-A957-FBE5BD042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FCD1-DA94-4754-8163-CC0308AC4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BF49-F633-4BDA-A9EE-1E96457A1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4C18-F5FA-4A7D-A5A1-A2C8AE1AA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04A5-78CA-4861-8EC3-E0AB61D09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7E31-9CC6-4D8E-BD79-15303596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5B1F-9854-46FA-8002-31674F3E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A82A-A21A-4342-83AE-471455A6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3AA82-2380-4706-9DC7-20579CDCB0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QpTqV6LPl8c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95959"/>
                </a:solidFill>
                <a:latin typeface="Calibri"/>
              </a:rPr>
              <a:t>Pedagoška psihologija</a:t>
            </a: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0" lang="en-US" sz="6000" spc="-1" strike="noStrike">
                <a:solidFill>
                  <a:srgbClr val="595959"/>
                </a:solidFill>
                <a:latin typeface="Calibri"/>
              </a:rPr>
              <a:t>Ispitivanje ZNR u praksi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440" y="4266720"/>
            <a:ext cx="39625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Prof. Dr Nada Kora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Pedagoški fakultet u Jagodin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Univerztet u Kragujevc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Ko nema u glavi, ima u nogam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Znači da u glavi nemaš pertlu, a u nogama imaš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Kad neko misli sa svojim nogam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To znači glup je, a ipak može da hoda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To nije tačno, zato što noge nisu za razmišljanj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Ispeci pa reci</a:t>
            </a:r>
            <a:br>
              <a:rPr sz="36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je za lepo ponašanje. Kad odeš nekome u goste, treba da sačekaš da se prvo ispeče pa tek posle da tražiš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je valjda ako se izgoriš, da ne pričaš nikome ako ne boli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je kako se peku knji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a mislim da tako raste pam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7f7f7f"/>
                </a:solidFill>
                <a:latin typeface="Calibri"/>
              </a:rPr>
              <a:t>PRIČE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O rodi i ždralovima –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šta može da se nauči iz ove priče?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Odatle se učimo kako se basne pričaj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Šta on ima da joj govori platićeš glavom kad niko ne nosi glavu u novčaniku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Roda ne ume da govori, ona se to pred seljakom samo pravi da ume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Odavde vidimo da su seljaci opasni po pt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Učimo se o pticama: s kojom se pticom družiš, takav si i ti ždr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Ne treba da krademo sa drugima ako se nalaze zamk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oš o rodi i ždralovim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a priča nas uči da kad idemo u krađu dobro treba da gledamo da li je seljak postavio zamk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z te basne vidimo da ja imam tu basnu kod kuć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a basna nas uči da se ne družimo sa pticam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z ove priče vidimo da je seljak bio dosta podmukao i da je prevario rodu. Tako su i jedni jarići bili pojedeni od vuk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čimo se o pticama. S kojom se pticom družiš, takav si i ti ždral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 čoveku koji je zvao kraljevića Marka da mu izvadi kola iz bl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z te priče se vidi da je čovek bio pametan i nije hteo da gura nego je odmah zvao kraljevića Mar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z te priče učimo da ako je nešto prljavo ne treba mi da se prljamo nego samo da poučimo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ad se nekome zaglave kola treba da kažemo: “Dragi seljak poguraj točkove iz blata”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z ove priče može da se izuči prva pomoć seljacim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z te basne vidimo da nikada ne treba da upadamo u nevolju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ko se zaglavimo negde, ne treba da se deremo pa da nas posle neko uči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š o čoveku koji je zvao u pomo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datle se učimo kako je kraljević Marko bio mnogo veliki i zato nije hteo da se saginj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davde vidimo da to nije junačka pesma o junacim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raljević Marko je izmislio kako se vade kola iz bla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dimo da je kraljević Marko otišao svojim putem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ad smo u nevolji treba da se oslanjanamo na drugog i na kraljevića Mark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a priča nas uči da se kraljević Marko zove u pomoć sa deranjem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vetu se ne može ugodi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i su trebali da probaju da otac vodi magarca i da nosi sina a oni nisu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i su trebali noćom da idu u drugi grad ako se mnogo ne plaš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a mislim trebalo je da jaše onaj ko je najstariji od nji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ebali su prvo da vide ko može najbolje da nosi pa njega da jašu a ne da nose onoga ko može nji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žemo da vidimo da ja još nisam video da magarac nekoga jaš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 odatle možemo da vidimo ko je koga jašio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š o svetu 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datle vidimo da ja više volim kon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žemo da vidimo da su žene počele prve da pričaj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garac nije trebao da dozvoli da ga oni no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garac je kriv jer je bio mnogo tvrdoglav, šta je on imao da skače s mosta u reku kad su oni njega nosil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dimo da je sin bio dobar prema ocu i otac je bio dobar prema sinu a i magarac nikom nije bio zao nego putnici po put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z te priče o vodeničaru i njegovom sinu vidi se da su oba bili zamlaćen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ča nam pokazuje da je sin bio strašno jak kad je mogao da nosi pola od magarc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š o svetu 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davde možemo da vidimo da se taj magarac mnogo namučio sa ovim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 odatle vdimo da ljudi što su išli putem nisu bili kulturni, niko nije vikao “dobar dan!”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čisto je bio glup onaj građanin što je vikao “Vidi dva magarca!” a bio je samo jeda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dimo da su ljudi na putu samo pričali a trebali su da im pomognu da nose magarc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dimo da čovek u svom životu može da bude jašen od svog magarca a isto i si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čimo se da glupim ljudima ni magarac ne pomaž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spitivanje ZNR u praks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edan “metaforički” pogled na ZN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youtube.com/watch?v=QpTqV6LPl8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 šta vas ovo podseć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ko ćete znati kad ima smisla da “povučete” dete napred, tj. kad će nešto moći da uradi uz vašu pomoć, iako još uvek ne može sâm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š o svetu 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rod nije ugodan, nikad ne treba da ugađamo narodu kad idemo pokraj rek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eba sve da probamo kad idemo sa magarcim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ad idemo putem svašta može da se desi ako nas sreć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 ne treba mnogo da pretovarujemo magarca sa nam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ko bi slušali sav narod mi bi propali a magarac je slušao pa je propao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dimo da ne treba da vodimo magarca nigd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jbolje je da ne prodajemo magarc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 treba da idemo pored reke i treba da siđemo kad nas neko nosi da ne izginemo s most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Odatle vidimo da je mnogo bolje da idemo autobusom u susedan grad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snovno PRAKTI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ČNO pitanje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Šta ja znam o ovom detetu što mi može pomoći da, u okviru svojih profesionalnih kompetencija, donesem odluku koja je u njegovom najboljem interesu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577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62120" y="11430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898989"/>
                </a:solidFill>
                <a:latin typeface="Calibri"/>
              </a:rPr>
              <a:t>GLUPOSTI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Ja imam tri brata: Pavla, Milana i sebe. </a:t>
            </a:r>
            <a:br>
              <a:rPr sz="3200"/>
            </a:b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Šta je tu glupo?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6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Glupo je što imaš tri brata a možeš da imaš i više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Pa sebe je imao već jednom, šta se meša sa braćom?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Sam sebi nisi brat. Sam sebi nisi ni rođa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Meni je mnogo glupo što imaš brata Mila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Sebe nije njegov brat. To je neki tuđi br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Ništa nije glupo. Kad ima samo dva brata mora i sebe da raču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Glupo je što je i sebe stavio njemu za bra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Možda ti imaš tri sestre samo nećeš da kažeš i to je baš glup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Ti se tu zoveš sebe i to je neko glupo i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Nisi nam uopšte  rekao kako se ti zoveš i to je mnogo glup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edan moj prijatelj ima tako velika stopala da pantalone mora preko glave da oblači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Šta je tu glupo?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63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ni je glupo što ne ćutiš kad imaš takvog prijatel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63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upo je što su pantalone na sredini zašivene pa može    glavom da se udari u onu pregradu između nog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63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up je taj tvoj prijatelj što ima takvo stopalo i što ga ne poprav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63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ko obuče tako svi će posle videti da pantalone nisu muške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63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j će sigurno da pocepa pantalo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š o prijatelju s velikim stopalima 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upo je što stalno zapitkuješ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 može da provuče glavu samo kroz jednu nogavicu a drugu mora da drži kad id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 može tako sigurno, još se takav nije rodio ko može da obuče glavu sa pantalonama kroz obe nogavice!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ije ništa glupo zato što je on sigurno oblačio neke ženske pantalone od svoje sestr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upo je što samo započnete priču i odmah stanete a treba da nam pričate dugačke prič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a mislim da treba da ima najmanje dve glave pa da mu prođu kroz obe nogavice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Jednom zatvoreniku sudija je rekao: “VI ćete biti obešeni i ja se nadam da će to biti dobra opomena za vas.” Šta je ovde glupo?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upo je što mu kaže “vi” a hoće posle da ga obes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ko ga obesi za opomenu posle neće imati sa čim da ga opominje i to će biti mnogo glup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upo je što će da ga bese, to znači da će da ga obese, a čovek se nije ni nadao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upa je opomena, on ne može da se popravi ako ga obesi, bolje je da ga ne opominje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9600" spc="-1" strike="noStrike">
                <a:solidFill>
                  <a:srgbClr val="7f7f7f"/>
                </a:solidFill>
                <a:latin typeface="Calibri"/>
              </a:rPr>
              <a:t>MUDROSTI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sr-Latn-CS" sz="4800" spc="-1" strike="noStrike">
                <a:solidFill>
                  <a:srgbClr val="000000"/>
                </a:solidFill>
                <a:latin typeface="Calibri"/>
              </a:rPr>
              <a:t>Batina je iz raja izašla</a:t>
            </a:r>
            <a:br>
              <a:rPr sz="36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To znači da ni raj nije baš mnogo dobar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To je što ništa ne razumeš, samo te strah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Ja mislim da ni tamo nije bila dobra pa je rajčani isterali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Kod nas ona stoji na šifonjeru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8T14:32:29Z</dcterms:created>
  <dc:creator>Nada Korac</dc:creator>
  <dc:description/>
  <dc:language>en-US</dc:language>
  <cp:lastModifiedBy>Nebojsa</cp:lastModifiedBy>
  <dcterms:modified xsi:type="dcterms:W3CDTF">2011-02-07T07:59:42Z</dcterms:modified>
  <cp:revision>58</cp:revision>
  <dc:subject/>
  <dc:title>problemi tumačenja</dc:title>
</cp:coreProperties>
</file>