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F26-08E4-418D-BAAB-CC6D72C8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BFF-B950-4BE6-B9D2-E4F5CC82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31F-80AE-4E1A-A75E-DFE25CB5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484-6E8F-4613-9D98-17752138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506-7D60-47A7-A17C-F8D9800B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AF0-AB6E-4013-B55F-C605AC4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316-5495-4676-9296-A295FEE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28D-C437-4CFF-9AB1-750A18C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2E0-C8DF-44AE-9DDC-D94ED4E1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E62-C74B-43F8-98B3-D913C986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8CA-03D4-4A29-96CD-6D7EFAE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DE5-FCE4-466E-A92F-CAAFF070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DD87-A8ED-46A5-877F-2A71318AF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Pedagoška psihologij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5400" spc="-1" strike="noStrike">
                <a:solidFill>
                  <a:srgbClr val="7f7f7f"/>
                </a:solidFill>
                <a:latin typeface="Calibri"/>
              </a:rPr>
              <a:t>Učenje i razvoj:</a:t>
            </a:r>
            <a:br>
              <a:rPr sz="5400"/>
            </a:br>
            <a:r>
              <a:rPr b="0" lang="en-US" sz="5400" spc="-1" strike="noStrike">
                <a:solidFill>
                  <a:srgbClr val="7f7f7f"/>
                </a:solidFill>
                <a:latin typeface="Calibri"/>
              </a:rPr>
              <a:t>implikacije razvojnopsiholoških teorija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4571640"/>
            <a:ext cx="3505320" cy="1600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of. D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aget i obrazovanj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zvoj prethodi uče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no čvrsta određenost stadij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terogenost u okviru stadij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kulturalne razli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nemarivanje uloge socijalnog kontek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aljali Medonja”, napukla čaša, lutkina kuća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na ograničenost važ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čko-matematičko rasuđ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aget: primena u razre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zeti u obzi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čekivani nivo razvoj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gru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važit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ne raz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oznati i uvažit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ojeći nivo razvoj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ogućit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no uključivanje u na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što viš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ostalnog istraživan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zazivat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gnitivnu neravnotež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enjivati na osnovu individualnog napre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nomni standard ocenjivan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Лев Семёнович  Выгóтский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500"/>
            </a:b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individualno-socioekološki pristu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ONTOGENEZA:</a:t>
            </a: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ovek je </a:t>
            </a:r>
            <a:r>
              <a:rPr b="0" lang="sr-Latn-CS" sz="2000" spc="-1" strike="noStrike">
                <a:solidFill>
                  <a:srgbClr val="ff0000"/>
                </a:solidFill>
                <a:latin typeface="Calibri"/>
              </a:rPr>
              <a:t>DRUŠTVENO BIĆ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ra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menama sa sredinom, važna 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7f7f7f"/>
                </a:solidFill>
                <a:latin typeface="Calibri"/>
              </a:rPr>
              <a:t>pomoć koju dobija od drugih (pre svega ODRASLI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prikladno za vrste kod kojih je kontakt roditelj-potomak relativno dug,  gde odrasli obavjlaju neku obuku (eksplicitno ili primerom)  -  naročito ljudska vr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ojno je ključ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ASIMETRIČNA INTERAK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drasli zna više od deteta, i o samom detetu i o svetu koji ga okružu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a bi ovakva interakcija bila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ojno efikasna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, važno je da se odvij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ZONI NAREDN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no što dete, u datoj fazi, još uvek ne može da uradi samo, ali može u interakciji sa odrasl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7f7f7f"/>
                </a:solidFill>
                <a:latin typeface="Calibri"/>
              </a:rPr>
              <a:t>scaffolding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= “skele”, sistem socijalne (obrazovne) podrške u  ZN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Jaan Valsiner, U of Virginia, U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gotski i obrazovanje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838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čenje prethodi razvo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osl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z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ajednički za s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drasli, svojim ponašanjem, uvode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svet malog deteta (npr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 pokazivan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zvoj misaonih struktura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kušaji upravljanja okoli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zvoj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o rezulta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ma simbola (pre sveg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o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ve više mentalne funkcije su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ternalizovani socijalni gov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172200" y="1752480"/>
            <a:ext cx="1676520" cy="53352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znač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133720" y="3505320"/>
            <a:ext cx="4114800" cy="45720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iših mentalnih funk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743200" y="3962520"/>
            <a:ext cx="2514600" cy="45720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ernaliz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gotski i obrazovanje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zvoj ide smerom od kontrole ponašanj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l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a kontrol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nut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nica ZNR - ono što dete mož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â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rn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nica ZNR – ono što mož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z pomoć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ras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zlika u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irini ZN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 razlika u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enu poučljiv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R je sličn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otovosti za učenj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avisna od sazrevanja, mora se čekati) , ali daje veću važno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čenim znanjma, kao ishodištu novog učenj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čitelj(ica) je aktivn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dič kroz ZN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“područje najbližeg razvoj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affol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opisuj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ogu poučavanj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 onoga što j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iž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kustvu, ka onome što j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l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gotski: primena u razred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efinisat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č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re znan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pitivanjem onoga što je de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u potpunosti savladal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vrđuje se sam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onja granica ZN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ni ra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čin za utvrđivanje granica ZN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premit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datna pitanja i uputst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 osnovu poznavanja detetovih trenutnih moguć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kovati i beležit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ta pomaže i k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21:58:46Z</dcterms:created>
  <dc:creator>Nada Korac</dc:creator>
  <dc:description/>
  <dc:language>en-US</dc:language>
  <cp:lastModifiedBy>Nebojsa</cp:lastModifiedBy>
  <dcterms:modified xsi:type="dcterms:W3CDTF">2011-02-07T07:58:45Z</dcterms:modified>
  <cp:revision>34</cp:revision>
  <dc:subject/>
  <dc:title>Učenje: implikacije razvojnopsiholoških teorija</dc:title>
</cp:coreProperties>
</file>